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932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2700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64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932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2700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920" y="296640"/>
            <a:ext cx="6336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32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28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7164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32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3959640"/>
            <a:ext cx="25498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0920" y="296640"/>
            <a:ext cx="6336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920" y="3959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9920" y="1628640"/>
            <a:ext cx="386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959640"/>
            <a:ext cx="79200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663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924360" y="4941720"/>
            <a:ext cx="5051520" cy="863640"/>
          </a:xfrm>
          <a:prstGeom prst="roundRect">
            <a:avLst>
              <a:gd name="adj" fmla="val 181"/>
            </a:avLst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24000" y="1557000"/>
            <a:ext cx="50497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624528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/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71640" y="624528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7E3-F0FD-4D75-991F-AF308329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rcRect l="0" t="0" r="124" b="-276"/>
          <a:stretch/>
        </p:blipFill>
        <p:spPr>
          <a:xfrm>
            <a:off x="4643280" y="6081840"/>
            <a:ext cx="4500720" cy="77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6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71640" y="1628640"/>
            <a:ext cx="79200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24000" y="1412640"/>
            <a:ext cx="5040360" cy="21603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MM-Based Multimodal Biometric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24360" y="3352680"/>
            <a:ext cx="2519280" cy="274032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nis Styli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nis Panta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ipe Calder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ro Lar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00720" y="3429000"/>
            <a:ext cx="2843280" cy="2736360"/>
            <a:chOff x="6300720" y="3429000"/>
            <a:chExt cx="2843280" cy="2736360"/>
          </a:xfrm>
        </p:grpSpPr>
        <p:sp>
          <p:nvSpPr>
            <p:cNvPr id="84" name=""/>
            <p:cNvSpPr/>
            <p:nvPr/>
          </p:nvSpPr>
          <p:spPr>
            <a:xfrm>
              <a:off x="6300720" y="3429000"/>
              <a:ext cx="2843280" cy="2736360"/>
            </a:xfrm>
            <a:prstGeom prst="roundRect">
              <a:avLst>
                <a:gd name="adj" fmla="val 60"/>
              </a:avLst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00720" y="3429000"/>
              <a:ext cx="2843280" cy="23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ançois Sever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scha Schim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olando B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derico Mat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hanasiosValsamak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16520" y="4076640"/>
            <a:ext cx="4427640" cy="13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16520" y="1290600"/>
            <a:ext cx="4427640" cy="152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916520" y="2809800"/>
            <a:ext cx="4427640" cy="129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Signature Modality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We focused on on-line signatur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Device: Wacom Graphire3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Hz sampl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-, y-position with resolution of 2032 l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2 pressur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Derivated featur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2f6456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le of tangent in sampl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2f6456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ace Modality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recognition into a verification System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ation and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ace: Preprocessing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detection and segment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scenario: single user in front of th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CV face detector has an excell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31626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ace: Normalization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ace normaliz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and siz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y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17008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230328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5905" r="0" b="55862"/>
          <a:stretch/>
        </p:blipFill>
        <p:spPr>
          <a:xfrm>
            <a:off x="5796000" y="1341360"/>
            <a:ext cx="2311200" cy="93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rcRect l="60964" t="0" r="0" b="0"/>
          <a:stretch/>
        </p:blipFill>
        <p:spPr>
          <a:xfrm>
            <a:off x="7667640" y="3429000"/>
            <a:ext cx="1030320" cy="144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rcRect l="0" t="0" r="64850" b="0"/>
          <a:stretch/>
        </p:blipFill>
        <p:spPr>
          <a:xfrm>
            <a:off x="6443640" y="3429000"/>
            <a:ext cx="9288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24000" y="5373720"/>
            <a:ext cx="2877840" cy="861840"/>
            <a:chOff x="324000" y="5373720"/>
            <a:chExt cx="2877840" cy="861840"/>
          </a:xfrm>
        </p:grpSpPr>
        <p:sp>
          <p:nvSpPr>
            <p:cNvPr id="124" name=""/>
            <p:cNvSpPr/>
            <p:nvPr/>
          </p:nvSpPr>
          <p:spPr>
            <a:xfrm>
              <a:off x="324000" y="5373720"/>
              <a:ext cx="2877840" cy="861840"/>
            </a:xfrm>
            <a:prstGeom prst="roundRect">
              <a:avLst>
                <a:gd name="adj" fmla="val 18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00" y="5502600"/>
              <a:ext cx="28778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6456"/>
                  </a:solidFill>
                  <a:latin typeface="Times New Roman"/>
                </a:rPr>
                <a:t>Binarization, inversion and eye mask 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92360" y="4724280"/>
            <a:ext cx="2446560" cy="1222560"/>
            <a:chOff x="3492360" y="4724280"/>
            <a:chExt cx="2446560" cy="1222560"/>
          </a:xfrm>
        </p:grpSpPr>
        <p:sp>
          <p:nvSpPr>
            <p:cNvPr id="127" name=""/>
            <p:cNvSpPr/>
            <p:nvPr/>
          </p:nvSpPr>
          <p:spPr>
            <a:xfrm>
              <a:off x="3492360" y="4724280"/>
              <a:ext cx="2446560" cy="12225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4906080"/>
              <a:ext cx="24465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6456"/>
                  </a:solidFill>
                  <a:latin typeface="Times New Roman"/>
                </a:rPr>
                <a:t>Detecting and selecting clusters in the upper half 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95880" y="4765680"/>
            <a:ext cx="1523880" cy="348840"/>
            <a:chOff x="6095880" y="4765680"/>
            <a:chExt cx="1523880" cy="348840"/>
          </a:xfrm>
        </p:grpSpPr>
        <p:sp>
          <p:nvSpPr>
            <p:cNvPr id="130" name=""/>
            <p:cNvSpPr/>
            <p:nvPr/>
          </p:nvSpPr>
          <p:spPr>
            <a:xfrm>
              <a:off x="6095880" y="4795560"/>
              <a:ext cx="1523880" cy="2869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5880" y="4765680"/>
              <a:ext cx="15238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6456"/>
                  </a:solidFill>
                  <a:latin typeface="Times New Roman"/>
                </a:rPr>
                <a:t>WITH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156360" y="5157720"/>
            <a:ext cx="2662200" cy="646200"/>
            <a:chOff x="6156360" y="5157720"/>
            <a:chExt cx="2662200" cy="646200"/>
          </a:xfrm>
        </p:grpSpPr>
        <p:sp>
          <p:nvSpPr>
            <p:cNvPr id="133" name=""/>
            <p:cNvSpPr/>
            <p:nvPr/>
          </p:nvSpPr>
          <p:spPr>
            <a:xfrm>
              <a:off x="6156360" y="5157720"/>
              <a:ext cx="2662200" cy="646200"/>
            </a:xfrm>
            <a:prstGeom prst="roundRect">
              <a:avLst>
                <a:gd name="adj" fmla="val 2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6360" y="5178960"/>
              <a:ext cx="26622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6456"/>
                  </a:solidFill>
                  <a:latin typeface="Times New Roman"/>
                </a:rPr>
                <a:t>Average of two images from the same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524720" y="4765680"/>
            <a:ext cx="1293840" cy="348840"/>
            <a:chOff x="7524720" y="4765680"/>
            <a:chExt cx="1293840" cy="348840"/>
          </a:xfrm>
        </p:grpSpPr>
        <p:sp>
          <p:nvSpPr>
            <p:cNvPr id="136" name=""/>
            <p:cNvSpPr/>
            <p:nvPr/>
          </p:nvSpPr>
          <p:spPr>
            <a:xfrm>
              <a:off x="7524720" y="4795560"/>
              <a:ext cx="1293840" cy="2869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24720" y="4765680"/>
              <a:ext cx="1293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6456"/>
                  </a:solidFill>
                  <a:latin typeface="Times New Roman"/>
                </a:rPr>
                <a:t>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7"/>
          <a:srcRect l="0" t="52922" r="0" b="5905"/>
          <a:stretch/>
        </p:blipFill>
        <p:spPr>
          <a:xfrm>
            <a:off x="6516720" y="2205000"/>
            <a:ext cx="23112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ace: Featur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Feature extrac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 transform over training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gen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riant &amp;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expansive &amp; data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3029040" cy="7524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11280" y="4292640"/>
            <a:ext cx="1941480" cy="377280"/>
            <a:chOff x="611280" y="4292640"/>
            <a:chExt cx="1941480" cy="377280"/>
          </a:xfrm>
        </p:grpSpPr>
        <p:sp>
          <p:nvSpPr>
            <p:cNvPr id="143" name=""/>
            <p:cNvSpPr/>
            <p:nvPr/>
          </p:nvSpPr>
          <p:spPr>
            <a:xfrm>
              <a:off x="611280" y="4292640"/>
              <a:ext cx="1941480" cy="358920"/>
            </a:xfrm>
            <a:prstGeom prst="roundRect">
              <a:avLst>
                <a:gd name="adj" fmla="val 4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1280" y="4292640"/>
              <a:ext cx="1941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US" sz="2000" spc="-1" strike="noStrike">
                  <a:solidFill>
                    <a:srgbClr val="2f6456"/>
                  </a:solidFill>
                  <a:latin typeface="Times New Roman"/>
                </a:rPr>
                <a:t>Feature 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71640" y="5229360"/>
            <a:ext cx="3382920" cy="717480"/>
            <a:chOff x="971640" y="5229360"/>
            <a:chExt cx="3382920" cy="717480"/>
          </a:xfrm>
        </p:grpSpPr>
        <p:sp>
          <p:nvSpPr>
            <p:cNvPr id="146" name=""/>
            <p:cNvSpPr/>
            <p:nvPr/>
          </p:nvSpPr>
          <p:spPr>
            <a:xfrm>
              <a:off x="971640" y="5229360"/>
              <a:ext cx="3382920" cy="7174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1640" y="5229360"/>
              <a:ext cx="3382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US" sz="2000" spc="-1" strike="noStrike">
                  <a:solidFill>
                    <a:srgbClr val="2f6456"/>
                  </a:solidFill>
                  <a:latin typeface="Times New Roman"/>
                </a:rPr>
                <a:t>Eigenvectors of the training covariance 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00720" y="5445000"/>
            <a:ext cx="2374920" cy="501840"/>
            <a:chOff x="4500720" y="5445000"/>
            <a:chExt cx="2374920" cy="501840"/>
          </a:xfrm>
        </p:grpSpPr>
        <p:sp>
          <p:nvSpPr>
            <p:cNvPr id="149" name=""/>
            <p:cNvSpPr/>
            <p:nvPr/>
          </p:nvSpPr>
          <p:spPr>
            <a:xfrm>
              <a:off x="4500720" y="5445000"/>
              <a:ext cx="2374920" cy="501840"/>
            </a:xfrm>
            <a:prstGeom prst="roundRect">
              <a:avLst>
                <a:gd name="adj" fmla="val 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00720" y="5445000"/>
              <a:ext cx="23749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US" sz="2000" spc="-1" strike="noStrike">
                  <a:solidFill>
                    <a:srgbClr val="2f6456"/>
                  </a:solidFill>
                  <a:latin typeface="Times New Roman"/>
                </a:rPr>
                <a:t>Vectorize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7640" y="4797360"/>
            <a:ext cx="2374920" cy="501840"/>
            <a:chOff x="6227640" y="4797360"/>
            <a:chExt cx="2374920" cy="501840"/>
          </a:xfrm>
        </p:grpSpPr>
        <p:sp>
          <p:nvSpPr>
            <p:cNvPr id="152" name=""/>
            <p:cNvSpPr/>
            <p:nvPr/>
          </p:nvSpPr>
          <p:spPr>
            <a:xfrm>
              <a:off x="6227640" y="4797360"/>
              <a:ext cx="2374920" cy="501840"/>
            </a:xfrm>
            <a:prstGeom prst="roundRect">
              <a:avLst>
                <a:gd name="adj" fmla="val 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27640" y="4797360"/>
              <a:ext cx="23749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US" sz="2000" spc="-1" strike="noStrike">
                  <a:solidFill>
                    <a:srgbClr val="2f6456"/>
                  </a:solidFill>
                  <a:latin typeface="Times New Roman"/>
                </a:rPr>
                <a:t>Mean image 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3348000" y="4290480"/>
            <a:ext cx="647640" cy="93996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84360" y="4219200"/>
            <a:ext cx="719280" cy="29196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930920" y="4363920"/>
            <a:ext cx="434880" cy="115416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938560" y="4219200"/>
            <a:ext cx="579240" cy="50652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ace: Eigenfac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1360" y="1628640"/>
            <a:ext cx="49402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ommon eigenface spac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ew users / images: computationally expa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no modification for verification /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Individual eigenface spac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ew users / new images: only recompute individual eigen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erification system: as fast as comm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dentification system: operations proportional to number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0" r="26333" b="0"/>
          <a:stretch/>
        </p:blipFill>
        <p:spPr>
          <a:xfrm>
            <a:off x="6156360" y="4076640"/>
            <a:ext cx="280656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0" t="0" r="26132" b="0"/>
          <a:stretch/>
        </p:blipFill>
        <p:spPr>
          <a:xfrm>
            <a:off x="6156360" y="1268280"/>
            <a:ext cx="280656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sion 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28280"/>
            <a:ext cx="76737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Possible levels of fusion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o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Matching Module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M model applied to each mod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 extr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-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Decision Module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Constitution of public a multimodal database 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(thank you all </a:t>
            </a:r>
            <a:r>
              <a:rPr b="0" lang="en-GB" sz="2800" spc="-1" strike="noStrike">
                <a:solidFill>
                  <a:srgbClr val="2f6456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Modality compensation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ER decreases with the number of mod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n the final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Homogeneous multimodal GMM approach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FUTURE WORK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9840" y="1700280"/>
            <a:ext cx="8066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New fusion schem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ing EER = 0%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Development of user identification system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Enlarge the databas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moment: 47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New signatures featur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Add forgeries to databas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gnature simulator for forgery training was alread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360" y="2997360"/>
            <a:ext cx="6337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  <a:ea typeface="Arial"/>
              </a:rPr>
              <a:t>¿</a:t>
            </a: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 QUESTIONS ?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4200" y="1523520"/>
            <a:ext cx="7201080" cy="58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Introduction to Biometrics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Multimodal Multilingual Database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Biometric Modalities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Fusion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f6456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2f645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Biometric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„</a:t>
            </a: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Biometrics is the science of measuring physical properties of living beings.“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2f645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f6456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Two types of biometric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 algn="just">
              <a:spcBef>
                <a:spcPts val="601"/>
              </a:spcBef>
              <a:buClr>
                <a:srgbClr val="2f6456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ysiologica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, fingerprints, ir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601"/>
              </a:spcBef>
              <a:buClr>
                <a:srgbClr val="2f6456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haviora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writing, spee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2f645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f6456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6456"/>
                </a:solidFill>
                <a:latin typeface="Arial"/>
              </a:rPr>
              <a:t>Multimodal biometric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 algn="just">
              <a:spcBef>
                <a:spcPts val="601"/>
              </a:spcBef>
              <a:buClr>
                <a:srgbClr val="2f6456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ur work, we focus on the fusion of speech, fac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Multimodal Multilingual Biometric Database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1840" y="1549440"/>
            <a:ext cx="792180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e database is composed of: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ich generat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(scrip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2f6456"/>
                </a:solidFill>
                <a:latin typeface="Arial"/>
              </a:rPr>
              <a:t>47 users / 1663 signatures / 351 videos</a:t>
            </a:r>
            <a:endParaRPr b="0" lang="en-US" sz="26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2f6456"/>
                </a:solidFill>
                <a:uFillTx/>
                <a:latin typeface="Arial"/>
              </a:rPr>
              <a:t>Free for the scientific community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72320" y="3152880"/>
            <a:ext cx="2070000" cy="511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421400" y="3740040"/>
            <a:ext cx="814680" cy="109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72320" y="1500120"/>
            <a:ext cx="2038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DB: Signatur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0920" y="1904760"/>
            <a:ext cx="77421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ignature files composed of comma separated integer valu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Y, pressure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Capturing Device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r tab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32360" y="2928960"/>
            <a:ext cx="353376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DB: Video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The videos provide audio and still pictur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postprocessing with perl and m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mpressed UYVY AVI 640 x 480, 15.00 f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mpressed 16bit PCM audio; mono, 32000Hz little en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920" y="296640"/>
            <a:ext cx="6337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DB: Controversy &amp; Issues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Filesystem based or DB engine based (speed vs. transparency)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Raw video for better image quality or compressed video: (</a:t>
            </a:r>
            <a:r>
              <a:rPr b="0" lang="en-US" sz="2200" spc="-1" strike="noStrike">
                <a:solidFill>
                  <a:srgbClr val="2f6456"/>
                </a:solidFill>
                <a:latin typeface="Arial"/>
              </a:rPr>
              <a:t>Octave/Matlab compatibilty, DB size...)</a:t>
            </a:r>
            <a:endParaRPr b="0" lang="en-US" sz="2200" spc="-1" strike="noStrike">
              <a:solidFill>
                <a:srgbClr val="2f645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Legal / psychological issuess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users refuse to provide real sign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B was rebuilt with fakes sign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f6456"/>
                </a:solidFill>
                <a:latin typeface="Arial"/>
              </a:rPr>
              <a:t>Compression?</a:t>
            </a:r>
            <a:endParaRPr b="0" lang="en-US" sz="24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100 Gb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Speech Modality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Speech signal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s frames with 10 ms fram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MFCC  features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pee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&amp;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efficient is discarded since it represents the average energy in the speech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33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f6456"/>
                </a:solidFill>
                <a:latin typeface="Arial"/>
              </a:rPr>
              <a:t>Signature Modality</a:t>
            </a:r>
            <a:endParaRPr b="1" lang="en-US" sz="3600" spc="-1" strike="noStrike">
              <a:solidFill>
                <a:srgbClr val="2f645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Off-line approach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quisition after the writing process using a sc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2-dimensio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2f645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f6456"/>
                </a:solidFill>
                <a:latin typeface="Arial"/>
              </a:rPr>
              <a:t>On-line approach</a:t>
            </a:r>
            <a:endParaRPr b="0" lang="en-US" sz="2800" spc="-1" strike="noStrike">
              <a:solidFill>
                <a:srgbClr val="2f645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quisition while writing process using special devices like digitizer tablets, TabletPC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time-related signals of pen movement (position, pressure, pen inclinatio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5-08-12T12:35:37Z</dcterms:modified>
  <cp:revision>8</cp:revision>
  <dc:subject/>
  <dc:title>GMM-Based Multimodal Biometric Verification</dc:title>
</cp:coreProperties>
</file>